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CA4-483E-41A7-ACAA-E7753834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3D4-4F8C-4339-9FEF-F267BA20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BA0-0784-4EED-A96B-CD65AC11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DEB-61ED-42FD-96E7-E7FBCA0B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2A9-E765-42A4-BB61-617ACD4B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CFF-3C73-45C0-A45C-C0961C6F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410-1209-4EC3-8C6F-B0AEFC27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16B-00EE-49A2-94B8-49621CB3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F0A-AC7A-40CA-8CCA-194CFB55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6BD-4CD4-492C-8099-6A194A8A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BF3-1261-4087-87B5-5ED1D391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527-210A-4DFE-A7C9-B4EB1C26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56DE-E478-4A68-B3B3-97AB6730B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s.wikipedia.org/wiki/Poderosa_Afrodita" TargetMode="External"/><Relationship Id="rId2" Type="http://schemas.openxmlformats.org/officeDocument/2006/relationships/hyperlink" Target="http://es.wikipedia.org/wiki/The_Matrix" TargetMode="External"/><Relationship Id="rId3" Type="http://schemas.openxmlformats.org/officeDocument/2006/relationships/hyperlink" Target="http://es.wikipedia.org/wiki/La_int&#233;rprete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DIPO R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mito de Edipo Rey es una tragedia griega, en la que vemos como una persona puede llegar a cometer los más espantosos crím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311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ta Martínez Monterro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batx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 tragedia griega se puede separar en las siguientes part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o que provoca la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ios de estar implicado en la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do final de la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4360" y="458136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 y Yocasta acaban casándose cuando Layo recuperó el tr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2735280" cy="381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448000" cy="388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 y Yocasta tienen a su hijo Ed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1600200"/>
            <a:ext cx="4038480" cy="4565520"/>
            <a:chOff x="457200" y="1600200"/>
            <a:chExt cx="4038480" cy="45655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457200" y="1600200"/>
              <a:ext cx="4038480" cy="456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nace Edipo, Layo se lo entrega a un pastor, y este se lo dio a su amo, el fue quien lo crió, se lo entrego a este pastor porque temía que se cumpliera el oráculo, en el que Apolo le anunció que terminaría muriendo en manos de su h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dipo cuando es joven se entera de que Pólibo no es su verdadero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25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se enteró decidió ir a buscar a su verdadera familia, en el camino ocurrió una disputa en la que Edipo mato a Layo, sin saber que el era su verdadero padre, aquí es donde se cumple el orác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po llega finalmente a Teb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en tebas, Edipo acaba con la esfinge que dominaba el pueblo y se gano la mano de Yocasta, viuda de Layo, y con ella tubo 4 hi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paso del tiempo se llega a conocer toda la ver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476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verdad es que Edipo se ha casado con su madre, Yocasta, y que el fue quien mato a su propio padre, esto provocó que Yocasta se suicidara y que Edipo se arrancara los ojos, porque nada de lo que había vivido er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3024360" cy="2692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6308640"/>
            <a:ext cx="576000" cy="414360"/>
          </a:xfrm>
          <a:prstGeom prst="leftArrow">
            <a:avLst>
              <a:gd name="adj1" fmla="val 50000"/>
              <a:gd name="adj2" fmla="val 347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lículas referentes a Edipo R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demos encontrar varias películas que tienen como referente  Edipo Rey de Sóflocles. Son las siguientes entre much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erosa Afrod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á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a Intérp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Historia O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o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3529080" cy="2333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600360" cy="2376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3529080" cy="2519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859280" y="3938760"/>
            <a:ext cx="36003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0:20:33Z</dcterms:created>
  <dc:creator>WinuE</dc:creator>
  <dc:description/>
  <dc:language>en-US</dc:language>
  <cp:lastModifiedBy>WinuE</cp:lastModifiedBy>
  <dcterms:modified xsi:type="dcterms:W3CDTF">2010-04-25T15:03:23Z</dcterms:modified>
  <cp:revision>7</cp:revision>
  <dc:subject/>
  <dc:title>EDIPO REY</dc:title>
</cp:coreProperties>
</file>